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F7D-8D09-4114-A5A6-A4F14DA9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841-F12D-403D-94DA-1D5F38DB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2D8CE-6C68-46B8-8CDE-D9429E62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513F7-1688-4933-AD45-C31E8C69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BF582-7556-48BB-BE41-BF727E67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51AA9-14E0-4FF3-A95B-706172A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B5418-C57C-4FD3-8C7A-3D4D9D4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6A756-F5E9-4E3E-88EE-760FF3CC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7ECF4-E6D1-4743-B05D-F2D54F7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B6578-EB1A-4BB1-B0B7-AA7FF76E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8130D-0CAF-4925-8C9D-0889F37D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B3D0A-E306-4C37-B4D6-7D20B0DB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D50-3EE0-4843-A944-0876A9CA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04319-F24C-44FE-961F-63A421A9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6F74E-2301-4A38-A5AB-5064830B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EE3F3-7E5B-4657-A071-478670C1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FAA11-E97A-4BE7-88E2-AC785CB9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1A734-A927-4F2D-8045-E287046C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5A68D-E0F0-4298-AA5C-1F4EC94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CAB49-5CCC-48EB-B276-43581B98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37363-0B1B-4440-99D0-D651BDF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64A5C-AC5B-4545-85AD-003A400F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7DFDF-4C14-4BE0-B76D-5D05CE3A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D19-BB79-46E9-B5C0-D18563C4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15035-ED8D-4CEF-A6A7-C8430D53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49F58-8D98-40BF-BF4E-228AF080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89D74-1E7C-411A-AE19-DC0872C1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C1969-BFE9-4EC3-8114-4FA88B6D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3A0BA-EE7E-48C9-9879-97CB1B99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19BAD-4079-4D61-A2A2-1B610F1A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B5364-B060-4D60-9B29-301AFF69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E853C-4D9A-4684-B982-A64DC611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CCD43-0DCF-454B-AE9E-9252B45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01879-16E3-483E-8949-A4A7C45F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5AC4-D607-4577-8304-0387F5AA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14F45-0BFD-4FB4-824C-12503A2C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5570A-03C1-4F33-9B3B-C635CC4C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B6D1B-DF5E-4557-881C-676B262A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FBB6D-5FA8-4374-8BEA-8D0E6DBF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80336-418A-46B1-A276-1E7AD59C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6A75D-2E79-491F-ABD0-8444DECB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CCBB7-4E5F-4DFD-AB9C-9610056F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91DCB-90AE-457D-ADFC-7AE0C7A6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AB4CB-1FB0-497B-B9AC-AA5A0CE2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F5C7F-FB37-4D51-9DBF-1E005934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2FC0-98F4-444E-B2D7-DEB980C3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23E9A-378A-4564-AF15-7D1440E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03F9E-EA5F-4777-8CC9-59EA86E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389A2-F53C-4A08-92DD-CD099A18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E87DB-BF2D-4348-896E-A1D3AEAD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4590A-240A-40BC-A356-844B37F2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D45C-5C69-43E9-8522-5D38244F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BE70-FE92-4BF3-B878-B6AF48CE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A235-DB15-4022-998D-5A3BE9B6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A75-D8C5-4F41-96FB-CCFCCAF2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31E1-45A1-4EA3-AD33-E71208A0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387-4863-4A2D-B04E-4877EB62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8F66-75DA-4C6E-A310-50E3B83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45DB-0398-4CCC-BF1E-08D5C1D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E35D-1FA0-4FB4-96F6-836090B0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6186-877E-4D4F-B60C-6CFA2272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C9FD-B65D-4E43-B281-109EC53B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498B-BCA9-44C4-A3D9-1EBB17AB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0493-3535-4A23-ADAB-86E58DA4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DDDF-6629-4FC6-84FB-FE01B7CD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A681-2A8C-41B4-9F04-F204DDE0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FDDE-C537-4B67-AFE6-39F0062C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CF7-76F3-4247-8A8F-3A2FDC63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6D6C-7D30-420B-9286-F18318DD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D5306-6410-4415-8F74-D8580B3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8C93-C8E2-455B-987D-16C0C70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5B42-BAE0-43AD-AE01-2169F560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AC88-A40A-4F17-8739-9F9F1EEF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E390-2210-4835-B891-158ACB04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97C2B-22A0-4C92-85E6-374EDEB9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894B-01FB-472C-8930-4DFC368D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5809-C82C-4995-A2E5-AB4F3D22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611A4-9D33-4401-B4A7-F5F769A8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4DC-4AC8-422B-84D1-BBE0A9B5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2801-785A-4EEA-8F92-E9D201DE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7F1E1-869C-4A18-BD1D-1514ACE3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C77D-3D2C-4B15-B883-727F1E00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7C04-3CB9-46CC-B0B8-89F917A5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BF687-F7EE-4514-B7B1-7C7D161A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0A00D-BAC2-4368-A749-87CDFE77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A583-E4CF-4FE0-AF8D-320446C3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41095-6462-4C9A-89EE-53F853B6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D6B7-A9F6-4637-9E8D-DD7CC745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B6E1-CA4E-4B8D-9993-15C147EC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E8F-EB8C-48B5-8960-33451752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B65EC-A48A-4B63-A300-BC5CF732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8BAFE-17BB-4D9C-994F-EB46F818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29FB-2420-4B56-A0E4-F90F5DE7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F559-2162-461E-A6F5-0B659CAF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56B0F-9A39-49C3-815F-ABEF5036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033DF-D1F0-4297-A715-96223B01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78909-E619-4390-9CA3-6F582F6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AA57-EBD6-430C-BA22-36F3326A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AFF60-AACE-4581-B822-C85D5D78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7F621-A74E-4CDF-AA38-B59D1D7B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8B2-10C5-46EC-99B5-9332D506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9B98B-6E87-4CE0-9BF6-CB7CB358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C04C7-F07E-4FB4-9CAF-595CAB97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62D8-84B6-4145-A98B-CFECBD04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A000-B606-489A-B493-E0C570A9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D71E0-0F85-4FAC-9BB3-280223AD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49955-4667-488D-9035-36C59B03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EEF3-AE10-4D3B-9EC0-2C49C6B1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E198D-7F51-49FF-B778-F4C0D63C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CC65-84F7-4A98-894B-B7DD1C16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45F12-0EAB-4ECA-B81F-4B2CACD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64C-FE39-4B04-B714-AB40AC94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F7A8-B28B-438A-A842-95A42BB8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0EF4C-E12B-4A4F-8429-D78DE8C2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5014F-AC57-45BB-9167-8996FF11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F518-C7CE-4016-9525-3666DDB6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ABE75-8BEF-4ACF-BCA9-73BDEF7B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3AF5E-A622-4487-8ADF-9C91D5BF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6782D-B869-4C67-8F53-F4D203B3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B1A9B-ACE1-4D19-9005-4CC9FC7E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5832B-33B7-4956-AB8C-69DF30F3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F6F1B-6A3B-4F25-85F0-0A1502E3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BD0-33C9-41B0-A1B8-EBD38AD7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CD8D-1A25-49D5-88FE-85F8E65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5E630-4013-4554-B303-F0F99D5D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C8C09-FA37-45E7-B930-C345DC0D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0709-A543-47A3-9E5E-454DA9AA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DBB50-58C7-4D9F-A7AF-D6225D13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EC9B1-7300-444C-B160-C90DBA8A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DA0D3-3C27-44BF-A3E1-48BE7535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EBE3-0696-487B-8AE5-9F446165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ED723-0DE6-46F2-BF7D-59FBF281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42E0C-B4F6-49B5-B9DE-5D4634B7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FA1-CAFC-4BE2-B6C7-BDAC142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CD774-34A6-4B6D-B63A-15EF4DB3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9D41F-C7CA-4EAF-A9B4-6989617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2ACE3-F376-4912-82B2-9F61C967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F7C92-0F50-4821-AD24-6F77DFC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E236E-DA14-4F27-8C54-5E45A16F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7056B-5EF3-4AC7-9D44-F75480E6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A593F-D473-4DED-89D3-BFD5F90E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60310-532E-4C28-BC82-7E9770E1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2F745-4C78-413B-8158-F369C86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45999-CC4D-49F2-97B4-E1F9B7AE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520-0AEE-4CC9-8B00-47B54A790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EB7A-C983-42AE-B34F-93102CDA9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6B78-B69A-421D-996C-E5BC7B8A71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C700-5423-458C-98ED-36ABB1E058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CB21-6F97-4C34-9865-E5FBDC5CB8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FD2D-1440-4755-860E-A77343D6D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72E3-718B-49DC-828E-668926B56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579F-0096-4E9E-8385-CE31CAE94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C667-C9E0-48CB-BD0F-9AAC8951E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89C5-DFDC-4495-BE1E-867E43D93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348C-3023-4C3D-AD65-F45B91C924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6D64-EFD2-4FFC-87D1-3472745565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Georgia"/>
              </a:rPr>
              <a:t>Story Map</a:t>
            </a:r>
            <a:br>
              <a:rPr sz="4800"/>
            </a:br>
            <a:r>
              <a:rPr b="0" lang="en-US" sz="4800" spc="-1" strike="noStrike">
                <a:solidFill>
                  <a:srgbClr val="0070c0"/>
                </a:solidFill>
                <a:latin typeface="Georgia"/>
              </a:rPr>
              <a:t>Title and Author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C:\Users\Long\AppData\Local\Microsoft\Windows\Temporary Internet Files\Content.IE5\DUVMK139\MC900439405[1].jpg"/>
          <p:cNvPicPr/>
          <p:nvPr/>
        </p:nvPicPr>
        <p:blipFill>
          <a:blip r:embed="rId1"/>
          <a:stretch/>
        </p:blipFill>
        <p:spPr>
          <a:xfrm>
            <a:off x="380880" y="380880"/>
            <a:ext cx="1381320" cy="1805040"/>
          </a:xfrm>
          <a:prstGeom prst="rect">
            <a:avLst/>
          </a:prstGeom>
          <a:ln w="0">
            <a:noFill/>
          </a:ln>
        </p:spPr>
      </p:pic>
      <p:pic>
        <p:nvPicPr>
          <p:cNvPr id="609" name="TextBox1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eorgia"/>
              </a:rPr>
              <a:t>Characters and Sett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2" name="Picture 3" descr="C:\Users\Long\AppData\Local\Microsoft\Windows\Temporary Internet Files\Content.IE5\ODED8T03\MC900432413[1].wmf"/>
          <p:cNvPicPr/>
          <p:nvPr/>
        </p:nvPicPr>
        <p:blipFill>
          <a:blip r:embed="rId1"/>
          <a:stretch/>
        </p:blipFill>
        <p:spPr>
          <a:xfrm>
            <a:off x="228600" y="304920"/>
            <a:ext cx="1133640" cy="1841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C:\Users\Long\AppData\Local\Microsoft\Windows\Temporary Internet Files\Content.IE5\7FN7HBQR\MC900100940[1].wmf"/>
          <p:cNvPicPr/>
          <p:nvPr/>
        </p:nvPicPr>
        <p:blipFill>
          <a:blip r:embed="rId2"/>
          <a:stretch/>
        </p:blipFill>
        <p:spPr>
          <a:xfrm>
            <a:off x="7543800" y="685800"/>
            <a:ext cx="1314360" cy="1494000"/>
          </a:xfrm>
          <a:prstGeom prst="rect">
            <a:avLst/>
          </a:prstGeom>
          <a:ln w="0">
            <a:noFill/>
          </a:ln>
        </p:spPr>
      </p:pic>
      <p:pic>
        <p:nvPicPr>
          <p:cNvPr id="614" name="TextBox1" descr=""/>
          <p:cNvPicPr/>
          <p:nvPr/>
        </p:nvPicPr>
        <p:blipFill>
          <a:blip r:embed="rId3"/>
          <a:stretch/>
        </p:blipFill>
        <p:spPr>
          <a:xfrm>
            <a:off x="685800" y="2819520"/>
            <a:ext cx="784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blem and Solu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Picture 3" descr="C:\Users\Long\AppData\Local\Microsoft\Windows\Temporary Internet Files\Content.IE5\JN0ML23B\MC900078622[1].wmf"/>
          <p:cNvPicPr/>
          <p:nvPr/>
        </p:nvPicPr>
        <p:blipFill>
          <a:blip r:embed="rId1"/>
          <a:stretch/>
        </p:blipFill>
        <p:spPr>
          <a:xfrm>
            <a:off x="685800" y="152280"/>
            <a:ext cx="992160" cy="2133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C:\Users\Long\AppData\Local\Microsoft\Windows\Temporary Internet Files\Content.IE5\JN0ML23B\MC900078743[1].wmf"/>
          <p:cNvPicPr/>
          <p:nvPr/>
        </p:nvPicPr>
        <p:blipFill>
          <a:blip r:embed="rId2"/>
          <a:stretch/>
        </p:blipFill>
        <p:spPr>
          <a:xfrm>
            <a:off x="7315200" y="457200"/>
            <a:ext cx="1287360" cy="175248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1" descr=""/>
          <p:cNvPicPr/>
          <p:nvPr/>
        </p:nvPicPr>
        <p:blipFill>
          <a:blip r:embed="rId3"/>
          <a:stretch/>
        </p:blipFill>
        <p:spPr>
          <a:xfrm>
            <a:off x="685800" y="2819520"/>
            <a:ext cx="784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1:57:02Z</dcterms:created>
  <dc:creator>Long</dc:creator>
  <dc:description/>
  <dc:language>en-US</dc:language>
  <cp:lastModifiedBy>Long</cp:lastModifiedBy>
  <dcterms:modified xsi:type="dcterms:W3CDTF">2011-02-14T03:28:49Z</dcterms:modified>
  <cp:revision>5</cp:revision>
  <dc:subject/>
  <dc:title>Story Map Title and Author</dc:title>
</cp:coreProperties>
</file>